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2.png" ContentType="image/png"/>
  <Override PartName="/ppt/media/image26.png" ContentType="image/png"/>
  <Override PartName="/ppt/media/image17.jpeg" ContentType="image/jpeg"/>
  <Override PartName="/ppt/media/image1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21.gif" ContentType="image/gif"/>
  <Override PartName="/ppt/media/image20.png" ContentType="image/png"/>
  <Override PartName="/ppt/media/image28.jpeg" ContentType="image/jpeg"/>
  <Override PartName="/ppt/media/image7.jpeg" ContentType="image/jpeg"/>
  <Override PartName="/ppt/media/image41.png" ContentType="image/png"/>
  <Override PartName="/ppt/media/image39.png" ContentType="image/png"/>
  <Override PartName="/ppt/media/image9.png" ContentType="image/png"/>
  <Override PartName="/ppt/media/image10.gif" ContentType="image/gif"/>
  <Override PartName="/ppt/media/image33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18.png" ContentType="image/png"/>
  <Override PartName="/ppt/media/image25.gif" ContentType="image/gif"/>
  <Override PartName="/ppt/media/image34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ED6-664D-49AC-A0BD-5E8E73B1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B8B-685D-4B4C-A025-E108402C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DAA-F5E0-4912-A9CE-802E57D0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95C-5A0D-4E8C-A0F7-D7E184AA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FBC-578F-4784-BD22-54EA5BBD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BAA-3CAB-4FCB-9FE3-4B7B2CE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AC0-FD2F-47AC-8DD6-FA600852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F49-41EF-4424-8ACC-2FCE6E4E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9BC-E50B-42DA-B428-586EB392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2B4-BCB2-436D-9BC5-8828EC6B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0EE-B2C6-4FD5-9A14-EBB6B39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2A5-FF0E-40EB-9794-66BF5DB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C50-6770-42E1-9082-9B9DB17FD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7.jpeg"/><Relationship Id="rId18" Type="http://schemas.openxmlformats.org/officeDocument/2006/relationships/image" Target="../media/image16.gif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8.png"/><Relationship Id="rId22" Type="http://schemas.openxmlformats.org/officeDocument/2006/relationships/image" Target="../media/image16.gif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image" Target="../media/image16.gif"/><Relationship Id="rId26" Type="http://schemas.openxmlformats.org/officeDocument/2006/relationships/image" Target="../media/image19.png"/><Relationship Id="rId27" Type="http://schemas.openxmlformats.org/officeDocument/2006/relationships/image" Target="../media/image20.png"/><Relationship Id="rId28" Type="http://schemas.openxmlformats.org/officeDocument/2006/relationships/image" Target="../media/image16.gif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3 Р.П. ХОР РАЙОНА ИМЕНИ ЛАЗО ХАБАРОВСКОГО К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765000"/>
            <a:ext cx="8064360" cy="5616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РУССКОГО ЯЗЫКА ПО ТЕ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Mistral"/>
                <a:ea typeface="Times New Roman"/>
              </a:rPr>
              <a:t>ПРАВОПИСАНИЕ              ПОСЛЕ БУКВ ШИПЯЩИХ СОГЛАСНЫ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Mistral"/>
                <a:ea typeface="Times New Roman"/>
              </a:rPr>
              <a:t>НА КОНЦЕ ИМЕН СУЩЕСТВИТЕЛЬНЫ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КЛАСС СИСТЕМА Л.В. ЗАНКО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АВТОР УЧЕБНИКА Н.В. НЕЧАЕВА, С.Г. ЯКОВЛЕВ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: М.А. Назар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871560" cy="8654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Конспект урока русского языка в 3 классе &quot;Правописание Ь после шипящих на конце разных частей речи&quot;"/>
          <p:cNvPicPr/>
          <p:nvPr/>
        </p:nvPicPr>
        <p:blipFill>
          <a:blip r:embed="rId2"/>
          <a:stretch/>
        </p:blipFill>
        <p:spPr>
          <a:xfrm>
            <a:off x="3348000" y="2060640"/>
            <a:ext cx="46980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35164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3" descr="E:\контроль\untitled.bmp"/>
          <p:cNvPicPr/>
          <p:nvPr/>
        </p:nvPicPr>
        <p:blipFill>
          <a:blip r:embed="rId1"/>
          <a:stretch/>
        </p:blipFill>
        <p:spPr>
          <a:xfrm>
            <a:off x="324000" y="352440"/>
            <a:ext cx="828036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10920" y="404640"/>
            <a:ext cx="806436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Рисунок 3" descr="http://www.distedu.ru/mirror/_nach/archive.1september.ru/nsc/1997/no32_2.gif"/>
          <p:cNvPicPr/>
          <p:nvPr/>
        </p:nvPicPr>
        <p:blipFill>
          <a:blip r:embed="rId1"/>
          <a:stretch/>
        </p:blipFill>
        <p:spPr>
          <a:xfrm>
            <a:off x="1332000" y="620640"/>
            <a:ext cx="6335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835344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8" name="Таблица 3" descr=""/>
          <p:cNvPicPr/>
          <p:nvPr/>
        </p:nvPicPr>
        <p:blipFill>
          <a:blip r:embed="rId1"/>
          <a:stretch/>
        </p:blipFill>
        <p:spPr>
          <a:xfrm>
            <a:off x="1042920" y="1322280"/>
            <a:ext cx="720576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01676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Рисунок 5" descr="http://www.distedu.ru/mirror/_nach/archive.1september.ru/nsc/1997/no32_4.gif"/>
          <p:cNvPicPr/>
          <p:nvPr/>
        </p:nvPicPr>
        <p:blipFill>
          <a:blip r:embed="rId1"/>
          <a:stretch/>
        </p:blipFill>
        <p:spPr>
          <a:xfrm>
            <a:off x="2771640" y="1341360"/>
            <a:ext cx="3313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26560" y="404640"/>
            <a:ext cx="7921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знать, как писат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до ….определя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сли …….род, то над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ягкий знак употребля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тогда мы пишем рож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ышь, печь, сушь и молодеж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сли род ……у слова 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ту знака никакого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тогда пиши: калач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рач, малыш, гараж и грач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562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Monotype Corsiva"/>
              </a:rPr>
              <a:t>Корзинка иде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708360" y="27147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5364000" y="2492280"/>
            <a:ext cx="2953080" cy="792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567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Monotype Corsiva"/>
              </a:rPr>
              <a:t>Корзинка ид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708360" y="27147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 rot="20068800">
            <a:off x="3595320" y="1418760"/>
            <a:ext cx="324324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 rot="20047200">
            <a:off x="4684320" y="2001960"/>
            <a:ext cx="381636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7754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ь часть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6"/>
          <p:cNvSpPr/>
          <p:nvPr/>
        </p:nvSpPr>
        <p:spPr>
          <a:xfrm rot="20087400">
            <a:off x="4801680" y="3324240"/>
            <a:ext cx="414972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712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ь род имен существитель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Monotype Corsiva"/>
              </a:rPr>
              <a:t>Корзинка ид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 rot="20068800">
            <a:off x="2666520" y="953640"/>
            <a:ext cx="324324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3564000" y="692280"/>
            <a:ext cx="3859200" cy="2517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7"/>
          <p:cNvSpPr/>
          <p:nvPr/>
        </p:nvSpPr>
        <p:spPr>
          <a:xfrm rot="20087400">
            <a:off x="4425840" y="2395080"/>
            <a:ext cx="414828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712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ь род имен существитель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6"/>
          <p:cNvSpPr/>
          <p:nvPr/>
        </p:nvSpPr>
        <p:spPr>
          <a:xfrm rot="20045400">
            <a:off x="4589280" y="3519360"/>
            <a:ext cx="424944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775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: какие звуки слышаться на конце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Мягкий знак может выполнять:</a:t>
            </a: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3 работ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 работ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 работ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Мягкий знак, обозначающий мягкость согласного..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ишется  в корне слова между двумя согласными или на конце сло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ишется только на конце слов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осле приставок между согласны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На конце существительных ж. р. после шипящих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сегда пишется мягкий знак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пишется мягкий знак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На конце существительных м. р. после шипящих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е пишется мягкий знак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ишется мягкий знак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13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Monotype Corsiva"/>
              </a:rPr>
              <a:t>"Чтение с пометками"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сте будет информа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ть пометки в конце каждого предлож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v» – был зна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+» – познакомил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-» – это для меня нов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612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Безграмотная речь мешает общению, пониманию сообщаемог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Лев Владимирович Щерб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http://im4-tub-ru.yandex.net/i?id=358735073-36-72&amp;n=21"/>
          <p:cNvPicPr/>
          <p:nvPr/>
        </p:nvPicPr>
        <p:blipFill>
          <a:blip r:embed="rId1"/>
          <a:stretch/>
        </p:blipFill>
        <p:spPr>
          <a:xfrm>
            <a:off x="3905280" y="3860640"/>
            <a:ext cx="14587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01520" y="333360"/>
            <a:ext cx="8934480" cy="612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46160" y="1577880"/>
            <a:ext cx="785880" cy="804960"/>
          </a:xfrm>
          <a:prstGeom prst="rect">
            <a:avLst/>
          </a:prstGeom>
          <a:ln w="0">
            <a:noFill/>
          </a:ln>
        </p:spPr>
      </p:pic>
      <p:sp>
        <p:nvSpPr>
          <p:cNvPr id="131" name="Солнце 7"/>
          <p:cNvSpPr/>
          <p:nvPr/>
        </p:nvSpPr>
        <p:spPr>
          <a:xfrm>
            <a:off x="101520" y="2492280"/>
            <a:ext cx="64764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712800" cy="463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388800" y="5084640"/>
            <a:ext cx="360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9640" y="549360"/>
            <a:ext cx="784872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рова Мари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средняя общеобразовательная школа №3 р.п.Хор муниципального района Лазо Хабаров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: «Школа АБВ»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hkola-abv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39280" y="333000"/>
            <a:ext cx="799308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Mistral"/>
              </a:rPr>
              <a:t>Орфографи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4255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65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5511960" y="3500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F:\ОФОРМЛЕНИЕ\картинки\картинки 2\подборки картинок 2\салют\Салют.jpg"/>
          <p:cNvPicPr/>
          <p:nvPr/>
        </p:nvPicPr>
        <p:blipFill>
          <a:blip r:embed="rId1"/>
          <a:stretch/>
        </p:blipFill>
        <p:spPr>
          <a:xfrm>
            <a:off x="6935760" y="24112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Program Files\Microsoft Office\MEDIA\CAGCAT10\j0295241.gif"/>
          <p:cNvPicPr/>
          <p:nvPr/>
        </p:nvPicPr>
        <p:blipFill>
          <a:blip r:embed="rId2"/>
          <a:stretch/>
        </p:blipFill>
        <p:spPr>
          <a:xfrm>
            <a:off x="1649520" y="2305080"/>
            <a:ext cx="1076040" cy="112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:\ОФОРМЛЕНИЕ\картинки\картинки 2\подборки картинок 2\ПРИРОДА 1\Природа\озера\railz.net - Dock.jpg"/>
          <p:cNvPicPr/>
          <p:nvPr/>
        </p:nvPicPr>
        <p:blipFill>
          <a:blip r:embed="rId3"/>
          <a:stretch/>
        </p:blipFill>
        <p:spPr>
          <a:xfrm>
            <a:off x="-27074880" y="23788800"/>
            <a:ext cx="15240240" cy="1143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30"/>
          <p:cNvPicPr/>
          <p:nvPr/>
        </p:nvPicPr>
        <p:blipFill>
          <a:blip r:embed="rId4"/>
          <a:stretch/>
        </p:blipFill>
        <p:spPr>
          <a:xfrm>
            <a:off x="206280" y="290520"/>
            <a:ext cx="133668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:\ОФОРМЛЕНИЕ\картинки\картинки 2\подборки картинок 2\солнышко\9189ddcdf7d3.png"/>
          <p:cNvPicPr/>
          <p:nvPr/>
        </p:nvPicPr>
        <p:blipFill>
          <a:blip r:embed="rId5"/>
          <a:stretch/>
        </p:blipFill>
        <p:spPr>
          <a:xfrm>
            <a:off x="2187720" y="4111560"/>
            <a:ext cx="12682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F:\ОФОРМЛЕНИЕ\анимационные стрелки\star14.gif"/>
          <p:cNvPicPr/>
          <p:nvPr/>
        </p:nvPicPr>
        <p:blipFill>
          <a:blip r:embed="rId6"/>
          <a:stretch/>
        </p:blipFill>
        <p:spPr>
          <a:xfrm>
            <a:off x="241200" y="2249640"/>
            <a:ext cx="1033560" cy="1033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7"/>
          <a:stretch/>
        </p:blipFill>
        <p:spPr>
          <a:xfrm>
            <a:off x="371520" y="4230720"/>
            <a:ext cx="1413000" cy="1308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9" descr="winter.jpg"/>
          <p:cNvPicPr/>
          <p:nvPr/>
        </p:nvPicPr>
        <p:blipFill>
          <a:blip r:embed="rId8"/>
          <a:stretch/>
        </p:blipFill>
        <p:spPr>
          <a:xfrm>
            <a:off x="5973840" y="56052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tropinka.jpg"/>
          <p:cNvPicPr/>
          <p:nvPr/>
        </p:nvPicPr>
        <p:blipFill>
          <a:blip r:embed="rId9"/>
          <a:stretch/>
        </p:blipFill>
        <p:spPr>
          <a:xfrm>
            <a:off x="6068880" y="4111560"/>
            <a:ext cx="1500480" cy="951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http://img-fotki.yandex.ru/get/4528/39663434.81/0_6b0e5_4d713e34_M.jpg"/>
          <p:cNvPicPr/>
          <p:nvPr/>
        </p:nvPicPr>
        <p:blipFill>
          <a:blip r:embed="rId10"/>
          <a:stretch/>
        </p:blipFill>
        <p:spPr>
          <a:xfrm>
            <a:off x="2090880" y="428760"/>
            <a:ext cx="118728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рас"/>
          <p:cNvPicPr/>
          <p:nvPr/>
        </p:nvPicPr>
        <p:blipFill>
          <a:blip r:embed="rId11"/>
          <a:stretch/>
        </p:blipFill>
        <p:spPr>
          <a:xfrm>
            <a:off x="3800520" y="422280"/>
            <a:ext cx="156528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Марина\Мои документы\анимационные стрелки\ar27.gif"/>
          <p:cNvPicPr/>
          <p:nvPr/>
        </p:nvPicPr>
        <p:blipFill>
          <a:blip r:embed="rId12"/>
          <a:stretch/>
        </p:blipFill>
        <p:spPr>
          <a:xfrm>
            <a:off x="1542960" y="89676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Марина\Мои документы\анимационные стрелки\ar27.gif"/>
          <p:cNvPicPr/>
          <p:nvPr/>
        </p:nvPicPr>
        <p:blipFill>
          <a:blip r:embed="rId13"/>
          <a:stretch/>
        </p:blipFill>
        <p:spPr>
          <a:xfrm>
            <a:off x="1101600" y="2714760"/>
            <a:ext cx="563760" cy="28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Марина\Мои документы\анимационные стрелки\ar27.gif"/>
          <p:cNvPicPr/>
          <p:nvPr/>
        </p:nvPicPr>
        <p:blipFill>
          <a:blip r:embed="rId14"/>
          <a:stretch/>
        </p:blipFill>
        <p:spPr>
          <a:xfrm>
            <a:off x="7731000" y="105732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Марина\Мои документы\анимационные стрелки\ar27.gif"/>
          <p:cNvPicPr/>
          <p:nvPr/>
        </p:nvPicPr>
        <p:blipFill>
          <a:blip r:embed="rId15"/>
          <a:stretch/>
        </p:blipFill>
        <p:spPr>
          <a:xfrm>
            <a:off x="5427720" y="105732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Марина\Мои документы\анимационные стрелки\ar27.gif"/>
          <p:cNvPicPr/>
          <p:nvPr/>
        </p:nvPicPr>
        <p:blipFill>
          <a:blip r:embed="rId16"/>
          <a:stretch/>
        </p:blipFill>
        <p:spPr>
          <a:xfrm>
            <a:off x="3214800" y="91440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E:\фото\свадьба доченьки\2012г отпуск\Новая папка (2)\Копия P1040828.JPG"/>
          <p:cNvPicPr/>
          <p:nvPr/>
        </p:nvPicPr>
        <p:blipFill>
          <a:blip r:embed="rId17"/>
          <a:stretch/>
        </p:blipFill>
        <p:spPr>
          <a:xfrm>
            <a:off x="3301920" y="2193840"/>
            <a:ext cx="1152720" cy="1578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Марина\Мои документы\анимационные стрелки\ar27.gif"/>
          <p:cNvPicPr/>
          <p:nvPr/>
        </p:nvPicPr>
        <p:blipFill>
          <a:blip r:embed="rId18"/>
          <a:stretch/>
        </p:blipFill>
        <p:spPr>
          <a:xfrm>
            <a:off x="8242200" y="281448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Марина\Мои документы\анимационные стрелки\ar27.gif"/>
          <p:cNvPicPr/>
          <p:nvPr/>
        </p:nvPicPr>
        <p:blipFill>
          <a:blip r:embed="rId19"/>
          <a:stretch/>
        </p:blipFill>
        <p:spPr>
          <a:xfrm>
            <a:off x="6415200" y="290196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Documents and Settings\Марина\Мои документы\анимационные стрелки\ar27.gif"/>
          <p:cNvPicPr/>
          <p:nvPr/>
        </p:nvPicPr>
        <p:blipFill>
          <a:blip r:embed="rId20"/>
          <a:stretch/>
        </p:blipFill>
        <p:spPr>
          <a:xfrm>
            <a:off x="4495680" y="281448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1"/>
          <a:stretch/>
        </p:blipFill>
        <p:spPr>
          <a:xfrm>
            <a:off x="5057640" y="2193840"/>
            <a:ext cx="1368720" cy="1714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Марина\Мои документы\анимационные стрелки\ar27.gif"/>
          <p:cNvPicPr/>
          <p:nvPr/>
        </p:nvPicPr>
        <p:blipFill>
          <a:blip r:embed="rId22"/>
          <a:stretch/>
        </p:blipFill>
        <p:spPr>
          <a:xfrm>
            <a:off x="2684520" y="281448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Марина\Мои документы\анимационные стрелки\ar27.gif"/>
          <p:cNvPicPr/>
          <p:nvPr/>
        </p:nvPicPr>
        <p:blipFill>
          <a:blip r:embed="rId23"/>
          <a:stretch/>
        </p:blipFill>
        <p:spPr>
          <a:xfrm>
            <a:off x="5506920" y="4599000"/>
            <a:ext cx="5637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Марина\Мои документы\анимационные стрелки\ar27.gif"/>
          <p:cNvPicPr/>
          <p:nvPr/>
        </p:nvPicPr>
        <p:blipFill>
          <a:blip r:embed="rId24"/>
          <a:stretch/>
        </p:blipFill>
        <p:spPr>
          <a:xfrm>
            <a:off x="3433680" y="460368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Марина\Мои документы\анимационные стрелки\ar27.gif"/>
          <p:cNvPicPr/>
          <p:nvPr/>
        </p:nvPicPr>
        <p:blipFill>
          <a:blip r:embed="rId25"/>
          <a:stretch/>
        </p:blipFill>
        <p:spPr>
          <a:xfrm>
            <a:off x="1755720" y="4603680"/>
            <a:ext cx="56196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6"/>
          <a:stretch/>
        </p:blipFill>
        <p:spPr>
          <a:xfrm>
            <a:off x="3995640" y="4127400"/>
            <a:ext cx="1575000" cy="12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7"/>
          <a:stretch/>
        </p:blipFill>
        <p:spPr>
          <a:xfrm>
            <a:off x="7942320" y="4237200"/>
            <a:ext cx="1149120" cy="75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Марина\Мои документы\анимационные стрелки\ar27.gif"/>
          <p:cNvPicPr/>
          <p:nvPr/>
        </p:nvPicPr>
        <p:blipFill>
          <a:blip r:embed="rId28"/>
          <a:stretch/>
        </p:blipFill>
        <p:spPr>
          <a:xfrm>
            <a:off x="7380360" y="4471920"/>
            <a:ext cx="5619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6" descr="http://bestgif.narod.ru/prazd/noviy-god-34.gif"/>
          <p:cNvPicPr/>
          <p:nvPr/>
        </p:nvPicPr>
        <p:blipFill>
          <a:blip r:embed="rId1"/>
          <a:stretch/>
        </p:blipFill>
        <p:spPr>
          <a:xfrm>
            <a:off x="714240" y="785880"/>
            <a:ext cx="1857600" cy="2382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http://bestgif.narod.ru/prazd/noviy-god-34.gif"/>
          <p:cNvPicPr/>
          <p:nvPr/>
        </p:nvPicPr>
        <p:blipFill>
          <a:blip r:embed="rId2"/>
          <a:stretch/>
        </p:blipFill>
        <p:spPr>
          <a:xfrm>
            <a:off x="6643800" y="1214280"/>
            <a:ext cx="1857240" cy="238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http://bestgif.narod.ru/prazd/noviy-god-34.gif"/>
          <p:cNvPicPr/>
          <p:nvPr/>
        </p:nvPicPr>
        <p:blipFill>
          <a:blip r:embed="rId3"/>
          <a:stretch/>
        </p:blipFill>
        <p:spPr>
          <a:xfrm>
            <a:off x="4572000" y="642960"/>
            <a:ext cx="1857240" cy="2382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71320" y="49968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ущ</a:t>
            </a:r>
            <a:r>
              <a:rPr b="0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i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твит</a:t>
            </a:r>
            <a:r>
              <a:rPr b="0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i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льно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6" descr="http://bestgif.narod.ru/prazd/noviy-god-34.gif"/>
          <p:cNvPicPr/>
          <p:nvPr/>
        </p:nvPicPr>
        <p:blipFill>
          <a:blip r:embed="rId4"/>
          <a:stretch/>
        </p:blipFill>
        <p:spPr>
          <a:xfrm>
            <a:off x="4643280" y="3214800"/>
            <a:ext cx="1857600" cy="23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http://bestgif.narod.ru/prazd/noviy-god-34.gif"/>
          <p:cNvPicPr/>
          <p:nvPr/>
        </p:nvPicPr>
        <p:blipFill>
          <a:blip r:embed="rId5"/>
          <a:stretch/>
        </p:blipFill>
        <p:spPr>
          <a:xfrm>
            <a:off x="2714760" y="1643040"/>
            <a:ext cx="18572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92000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961080" cy="4969080"/>
          </a:xfrm>
          <a:prstGeom prst="rect">
            <a:avLst/>
          </a:prstGeom>
          <a:ln w="0">
            <a:noFill/>
          </a:ln>
        </p:spPr>
      </p:pic>
      <p:sp>
        <p:nvSpPr>
          <p:cNvPr id="87" name="Двойная волна 4"/>
          <p:cNvSpPr/>
          <p:nvPr/>
        </p:nvSpPr>
        <p:spPr>
          <a:xfrm rot="19825200">
            <a:off x="2453760" y="1469880"/>
            <a:ext cx="2808360" cy="914400"/>
          </a:xfrm>
          <a:custGeom>
            <a:avLst/>
            <a:gdLst>
              <a:gd name="textAreaLeft" fmla="*/ 0 w 2808360"/>
              <a:gd name="textAreaRight" fmla="*/ 2808720 w 280836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7976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"/>
          <p:cNvSpPr/>
          <p:nvPr/>
        </p:nvSpPr>
        <p:spPr>
          <a:xfrm rot="707400">
            <a:off x="6300360" y="836640"/>
            <a:ext cx="172728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5492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быв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"/>
          <p:cNvSpPr/>
          <p:nvPr/>
        </p:nvSpPr>
        <p:spPr>
          <a:xfrm rot="20225400">
            <a:off x="6372360" y="2999880"/>
            <a:ext cx="177156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7574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отвеча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6"/>
          <p:cNvSpPr/>
          <p:nvPr/>
        </p:nvSpPr>
        <p:spPr>
          <a:xfrm rot="20077800">
            <a:off x="826560" y="4076280"/>
            <a:ext cx="2160720" cy="914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72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обознач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7"/>
          <p:cNvSpPr/>
          <p:nvPr/>
        </p:nvSpPr>
        <p:spPr>
          <a:xfrm rot="631800">
            <a:off x="915480" y="836280"/>
            <a:ext cx="1706760" cy="914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557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Это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567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8760" y="96840"/>
            <a:ext cx="8461440" cy="988920"/>
          </a:xfrm>
          <a:prstGeom prst="rect">
            <a:avLst/>
          </a:prstGeom>
          <a:ln w="0">
            <a:noFill/>
          </a:ln>
        </p:spPr>
      </p:pic>
      <p:pic>
        <p:nvPicPr>
          <p:cNvPr id="94" name="Таблица 3" descr=""/>
          <p:cNvPicPr/>
          <p:nvPr/>
        </p:nvPicPr>
        <p:blipFill>
          <a:blip r:embed="rId2"/>
          <a:stretch/>
        </p:blipFill>
        <p:spPr>
          <a:xfrm>
            <a:off x="396720" y="1054080"/>
            <a:ext cx="8498160" cy="5200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http://li-web.ru/"/>
          <p:cNvPicPr/>
          <p:nvPr/>
        </p:nvPicPr>
        <p:blipFill>
          <a:blip r:embed="rId3"/>
          <a:stretch/>
        </p:blipFill>
        <p:spPr>
          <a:xfrm>
            <a:off x="6443640" y="5300640"/>
            <a:ext cx="1081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istral"/>
                <a:ea typeface="Times New Roman"/>
              </a:rPr>
              <a:t>ЧЕМ ЗАКАНЧИВАЕТСЯ ДЕНЬ И НОЧ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85800" y="1557360"/>
            <a:ext cx="2736720" cy="3311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http://im5-tub-ru.yandex.net/i?id=283547852-32-72&amp;n=21"/>
          <p:cNvPicPr/>
          <p:nvPr/>
        </p:nvPicPr>
        <p:blipFill>
          <a:blip r:embed="rId2"/>
          <a:stretch/>
        </p:blipFill>
        <p:spPr>
          <a:xfrm>
            <a:off x="4788000" y="1706400"/>
            <a:ext cx="24480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istral"/>
                <a:ea typeface="Times New Roman"/>
              </a:rPr>
              <a:t>ЧЕМ ЗАКАНЧИВАЕТСЯ ДЕНЬ И НОЧ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vesenniy_solnechnyy_den-1440x900.jpg"/>
          <p:cNvPicPr/>
          <p:nvPr/>
        </p:nvPicPr>
        <p:blipFill>
          <a:blip r:embed="rId1"/>
          <a:stretch/>
        </p:blipFill>
        <p:spPr>
          <a:xfrm>
            <a:off x="539640" y="1289160"/>
            <a:ext cx="3311640" cy="207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33klass.gif"/>
          <p:cNvPicPr/>
          <p:nvPr/>
        </p:nvPicPr>
        <p:blipFill>
          <a:blip r:embed="rId2"/>
          <a:stretch/>
        </p:blipFill>
        <p:spPr>
          <a:xfrm>
            <a:off x="5508720" y="4149720"/>
            <a:ext cx="3298680" cy="2211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Конспект урока русского языка в 3 классе &quot;Правописание Ь после шипящих на конце разных частей речи&quot;"/>
          <p:cNvPicPr/>
          <p:nvPr/>
        </p:nvPicPr>
        <p:blipFill>
          <a:blip r:embed="rId3"/>
          <a:stretch/>
        </p:blipFill>
        <p:spPr>
          <a:xfrm>
            <a:off x="3886200" y="2625840"/>
            <a:ext cx="137160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8:37:25Z</dcterms:created>
  <dc:creator>SPA</dc:creator>
  <dc:description/>
  <dc:language>en-US</dc:language>
  <cp:lastModifiedBy>Еленга Берюхова</cp:lastModifiedBy>
  <dcterms:modified xsi:type="dcterms:W3CDTF">2013-11-13T03:05:45Z</dcterms:modified>
  <cp:revision>43</cp:revision>
  <dc:subject/>
  <dc:title>Презентация PowerPoint</dc:title>
</cp:coreProperties>
</file>